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6A85-A367-4262-AEE1-1A8C8CB78D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AF9D-7111-4179-A579-77B37E5C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C2CAE8-67FE-4BC1-B2DD-6EF2259E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BD77CD-D422-4D0D-9B79-96C1BC74D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62CE9E-AACF-4A1F-AB59-838AD528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245020-561B-443C-B254-F726424B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C19A56-C201-4A16-A8DF-75143266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61FE63-D319-4636-AC23-A3CE9F1A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A5B390-F475-4300-8E4C-5D6EE40D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C2F7AF-6C18-4F7E-BD68-CADBCDA5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44845D-9584-4A3E-9B81-2EFD0F61C9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5B372-0DD2-4872-8145-38240DBAC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82FA-D5D4-41A7-AB8E-2FA6C45A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874CE-5147-4A18-9664-BCA6F59B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FDEA7-725E-48C4-ACA7-47831C23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F277A-6EDC-4546-B5F9-B74C0150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F11AD-8645-4008-AFFD-5F281150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6F86-F614-44FF-874E-13AB3CD2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FE376-3542-4D20-B7BF-3DF710F6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C68B5-0B9E-4814-B2A2-C757EE70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0D45B-3C8D-41D9-8248-0C98C3B5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2C4E3-1593-4CC9-8F1A-3AFEC4D9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6D676-5616-48E0-92C6-B0DE3E65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0803-FABC-449F-915A-4E896F9532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050DE-C6CB-408B-86CC-C5A60440CB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1967BF-52D4-413A-905D-B008560ACB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482373-AB46-42EB-ABFC-BE450715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C8FF16-EC95-4C10-85FB-39034C15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E98DED-1C4B-4A93-823B-44370A08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DD19FC-6C51-4ACB-BBE0-96008335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259469-FC1E-4016-9887-53324627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2456EE-5F0F-4E34-B749-877B2C40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848336-B341-44E6-910F-D49881E3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7002B9-38ED-4633-B328-97C47F96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E543B-7F2E-4AF9-AE66-40CB196E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E8AF79-506C-4533-97CB-4E05DFB4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0886AC-C2B2-41E4-8571-64D06187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1671A-C708-45DE-88B1-03720493CD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233CE-8F20-4975-9C6C-F6EEF9D6D4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29DC9-803E-4D48-B5FD-7A76DCAD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FC228-EF5A-4E68-ADBF-DA4F447F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E9E76E-A60E-4488-A10B-E72657FF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500EC-C2BD-4EF3-BAF7-72FD6724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A199B-73BC-4D01-90F6-74787915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1255E-7F99-4217-8FFF-2DC14C37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94852-1AE0-4F96-8635-C37FB46F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0360F-3E18-43AA-81F6-6D0E8AB9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4084F-9892-4EFB-8E9C-8FEE7598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A890C-21C3-47A3-A986-A4051514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9A704-1826-4AD7-ACFA-87504D11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8A3AA-284E-4825-A5EB-F50330CDBD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59DF0-D851-41AA-8FE7-57B28636A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EE29A2-B544-4E87-AF67-C35959C4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4DE8E-0C68-4260-A347-57A210BF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5708B-005E-483F-9A51-B0C3D065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91841-7DCC-41B6-AD2A-0A3C2524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74849-5D75-4F63-8E3E-C5BF155B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C3506-2D5C-446E-A963-68A5C0E8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D79A3-29C2-474D-9C17-1191A2BD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3B63A-B18E-4342-B8AE-8B390E6F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E876F-3BCB-4E2A-A11E-A18BDC3F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A5594-B36B-4C8D-9643-CCD1E5C3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670F8-CA43-4FFF-82E1-34530197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1C825-D1B5-4B55-A4F7-6B0951F26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C1FC8-5279-456A-A73C-EBBFBF07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8BEEF-C8FE-4DE9-8BE4-7EE73C01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2B667-E55C-48AC-A7C0-F9FFEB2A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9B9DB-48EE-40DF-9AB5-90D71AA2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8BF4C-AF86-4AE1-91E2-5060AA57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18454-5FDF-491C-AAE5-9613107F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A726B-9A51-4098-8C14-E5802540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F6BC3-D91A-4B28-A9AF-D342A5B1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6DE60-BF56-4227-9AC9-C14ED98A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9F652-5825-4355-8956-181B25C0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1D7FB-9998-4639-A48F-48FB81D4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A3E56-0724-4EB7-84B8-65CEA86E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6F951-80CE-4712-A289-D90C613C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8F668-0E10-4FCF-9083-D2DB370D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8B389-22A9-4FC5-909F-6B112080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0009D-A324-46A0-BFB3-A6A3592D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0683E-7428-47DB-9C17-0296DF86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42D56-0CDB-48F8-ADDD-4C2C53FE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416C0-2D57-4F01-886A-259FE6B2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F6E94-D4E7-433F-9A2A-49E2930F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AB6B3-38D0-46D6-89B4-A483A118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ACDC9-9949-44C5-8216-F4589F29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656F8-F2CB-4A50-9F2B-26FDDCCB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F7279-4D96-4A66-8D96-34A3C7AC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3D823-6600-49FC-AF35-9DD2421B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F7437-930F-4F7E-86C4-D8E8B3A4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13509-C0B2-43A9-B655-CF014CAF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17B27-C1B6-4F2B-AF11-C875105B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0A8A1-47BF-4350-B192-940D22EB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1CE42-D4DF-49B8-BD23-406CE14A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C9B15-3A36-4FEF-B81A-BB758C36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041EA-D532-4A1D-9942-6A4DB7BA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55712-9E8E-4EC9-AA19-2653B537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754CA-7D6B-48AF-B641-38B0B801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74BA7-86CC-4D3B-BE67-A9FC58E6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EF82C-7CF8-4814-A03D-7E6EFFF6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B61D0-45DA-4788-8236-3ED88BA2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020AB-24E8-4306-BF39-FBA758D8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E1D31-9782-482C-A32D-2B86D974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80E51-F222-4077-8A03-0087DE3B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72CE6-FE3F-4815-B79F-70AA35AB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011CC-E962-4486-900C-2C40859C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B1E4DA-AFCA-4B66-84E8-2C200B17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04F1F-9027-4017-BE18-EEDEC37D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C5292-0F18-4602-ACEF-23721F89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58AD4-5E8A-4DE0-B2A9-DC628E74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F6BC7-F60A-44EF-AD84-EDC6084A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28188-7171-4308-B445-09094ACC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51D33-A51E-4C8A-96B0-8EA41FE8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1948B-006D-4DA5-8A1F-505B00A0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018B0-460E-4AB5-A0FA-F49EE6ED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E80D0-7C68-442B-9EFF-FBF0ABE6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F55DB-608F-4F1E-9C30-97746C90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F45EF-FEBF-46D9-9B6A-62584621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CF30C0-3181-4CBF-AE90-25D0B527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5BA5B5-CE23-441F-AB2B-109BBD92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62D7A-2D41-4A68-BC36-221EDF21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7E545-53E9-46D4-9846-4FDAF062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484494-AE2C-410D-BE2A-0E0B39DC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D88DC-C721-4373-A99B-DFF14088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EC9AC-5888-4D3F-B5B0-CD936BA9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DF202-BCC5-4A90-ADFD-0FFA1BD3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D3206-B4D7-4017-B658-79B066A1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803C4-D375-4018-A662-7F35F59B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14B809-8F4E-49EC-AE0D-29B0BFA8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9F7A57-2CB3-45B6-8B43-75293640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E22E1D-B398-4225-957B-7E11F844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02EF6-7234-4891-832F-11F975F0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05110-05EC-4347-B5D8-384BBA31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E90E3-AFCF-4360-BDF5-15AF50B8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3A019-25A2-4DDD-BAA8-D44CEF36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4D5F4-A8A9-4E43-95AC-F20C6BE1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14767-6246-4F1F-BCA4-AB23EDFB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EC7631-2E1D-4C27-89D6-760D4356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75118B-E8DB-4A1B-A360-8115B22E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9D925-D32C-49CD-A5FB-4F91190C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E2539-13DD-4129-B59B-A4E1CBB1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125E6F-B82A-4368-A15D-57B7E954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46A8D-46E4-4980-ABBE-D413617A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73BA8D-A089-4EA1-BD9F-4B1AE624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ACCB33-5F16-4C07-B9D9-DCE5CBE1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A33AB-79C2-4A31-8543-AA8E3C9B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00E19-BD13-4AE7-BBC2-C3E9E40D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B112C1-9EC4-48AE-9FDB-3BEF727F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CFBF3-CFCD-48D2-94AC-AB553A57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9CF9D3-54D8-4F47-8F88-7254B033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7CA829-725B-4D07-9D2B-355FA2B9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8B7485-5F5E-451A-A2ED-A11423E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584490-B53A-4DDB-BD4A-7B08A0D1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E7D01-A4BD-4A97-BC84-5F639C23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5C887-F66C-457A-97BF-27C3DE78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D7A15C-D272-4643-B638-EA58E05D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E400B-1594-4B53-8662-2F2C65C7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34CAE-D56C-47AF-BA53-B60BB631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3453C5-7E26-4B97-98BD-61D370C8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0A4C2-22FA-4EDD-9FE7-805D0BFA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51F36-4E09-43F5-B8E2-7B833AC6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9A440B-CE82-4F93-A93D-52A2BDFB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42A39-24A7-4A12-9771-F0310000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3AADE8-A3B2-49D1-84B7-03ED0CF5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C49D35-7F47-40B6-ACEA-B674C276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9E0D9-D52A-4F94-9819-C92F0389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6A7FB-5DE7-46C2-B811-533ECA35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190DDB-D96A-4AB2-B4AD-0A8DFD5174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979769-0D61-4852-9B21-AC8F50CA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8F6E4C-5D43-438E-954A-4D38FF0E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9B5424-17D8-433E-AF9E-E9341FCE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2362E-6D17-47BD-BBE0-6B3F62B8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091BBC-FEE2-4EB5-AABD-1D975B41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405D44-CE1F-4A36-9E62-0D088642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3AA7B4-CDD5-4F72-B1FE-10A20A28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05B2FE-C896-4848-967F-57BB11DD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DC550D-C87F-4141-BD4F-1C4AB516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D0E400-13F0-4AF7-9206-6AB01F81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81CB29-0666-43A0-A65A-4D02A4B6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ADD5E8-9581-481F-B8B9-2B947C0E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9EA71F-C3EF-488A-9223-E695E5D1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7D673-5F75-4183-A7B3-F0AF4E72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85FA7D-EAE6-40E3-8DE7-D937B467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A0FB3-AA32-4876-908E-5EA519FB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BF69B-533D-4E02-8FBA-B80C8EA4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92BFF5-4605-442D-B65B-BB440CB7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45B817-0B88-46D4-8B52-B437D7CF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AC8268-6143-47B7-9A91-32F60C53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3629F4-0FB8-4DF0-84A6-2C674F17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34EEB8-F5B6-4887-A6A3-40921E08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C2C8B-9C38-49C3-88CA-7B4F02E7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C9D66-CFCA-44A5-BA88-A0F62063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DACFD7-FDCF-4E69-AEB6-0203661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6D70AA-5C14-43FB-AA9B-7FB6C469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2B9BB4-6443-4400-BA33-B744A758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495824-8379-43D6-8FD0-33935A9D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33A76C-8164-4CBF-BF5F-5CE4A27F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9A20F2-7F4A-40BF-AA4F-323688F4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2E0138-C9A4-4129-B42F-E916FBC8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93BD1C-6161-4711-803B-D7D5661C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D703D3-E17B-4FD0-B579-0E650FD9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B8A928-AC74-422C-A34B-EDADB3A1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A401AC-2704-44D4-8380-758AB0B0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30B8A1-7BF1-489D-95FB-CCC9F2C9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1EDC9A-26A8-462D-B6CC-CF1B31B5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81880-6750-4025-B43B-8F66DE7A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3332D4-1748-4958-9C51-BC99C7E7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F230A3-BECD-4470-A6E9-1A94C344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FD8A36-3631-4BAB-91E3-AAD00A25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3F48C-DE33-4696-B2E9-AA902CBF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2489CA-4102-4677-8D0F-1A602BF7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F180-0888-441D-8563-EA6AA4DF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C76CC1-1555-44EF-BC9C-6C503A1D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1170E-B590-46BC-B375-9EB31AFB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D8CB3E-5332-4076-ABF3-E5AD0EDC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AEE6A-C2DE-4493-B0EA-30944233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EC0671-86E4-4CAB-984B-732D93A5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27A588-983D-49EE-AC4D-B0ED2F25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EC5AAE-1A41-4D66-AEAF-58E1564268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DAEBB-4E3D-4B7B-8307-D72B615F96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3E7C-4BB6-4558-9A40-93FB876C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106FA-323B-4C84-B9BA-15730616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F11E-5CCE-4ABF-8E27-E9ED4EF4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B1857-06CE-459D-8D79-38C4A1CD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DFEE-6F9D-422F-8AB5-2E980E80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D7CF-F969-41F2-A359-60A52F73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5520B-0A7A-424F-8517-BC6EF65C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E36E9-8D89-4DA1-9852-C3A9337A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F4C73-27C0-415B-9F75-89776F9D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101D2-AB53-45F1-9898-DDA0913A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1E0CB-8BE2-4D15-A893-F113435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CA0EB-310D-4E50-A02B-77E00387DA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66D1CE-C099-4DAE-BCEB-4F7E862A32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B22A-9132-47ED-8E71-13CAFE66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689C19-74B4-46B7-B5C2-837E816B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C507D-87DB-451D-8A5D-0EFCD468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DBC47-A864-489D-9F46-39A6F020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DC7451-F3F3-4AE7-903F-7FBAB99F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6D97C-6A0F-4F91-9507-DEB57F40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8ED42-F4B3-4713-BF78-BCE505F1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1AED7-914B-414D-97CD-729FF36D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EB7C0-7467-4FE2-9C0F-161C525E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EFAB3-061B-492E-9DA2-571CA117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B2B55-63BC-4441-83A9-FD172829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52897-D872-41EE-9AA2-361A1062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60689E-697D-4B48-B415-6F306173DC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F62B7E-117A-4036-BD48-3C4F514AE5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558EB6-A16C-4E5E-A7B2-38BD232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B71C43-3687-4503-85BC-0CC3DE36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9A5B25-1F7A-4CE1-ADE4-1AE600CA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FD7330-BD30-4A04-BA95-87BF5457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6BF5E7-2717-4DAF-9859-93472F02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EC3C4C-217E-4A0F-9FA6-66B0F15B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9A5E74-7FCC-4800-A3DA-C6A5C12C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9DC67A-9961-4830-82AA-0B077FB7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F804-802F-4BC7-AA78-F4708E38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C17413-073A-4905-A1BF-4BF91BA6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6B1D03-EEA2-4B7B-9349-A8EB5718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4C512D-8519-4CDD-BB15-51918B5AA7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4B5DA-D68D-404F-9750-F8007726DC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7AB30-1878-4876-99FE-D6F86FD0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71555-D773-4DB4-8751-22575CAE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7A0AE-9531-4C32-8461-3091F009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A32CD-AD55-4E5B-9B82-9D2E93FF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83B18-B992-4603-BE8C-7EF1EB20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00B0-400C-4DB0-AD26-C023006E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9B691-AA42-4C1B-A778-2D5E2B89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915EA-CCD6-436F-A983-2D6E6266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2D1EC-4301-4075-8610-2D054586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F5F4B-7563-469C-B8C8-9A801A53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7BFB1-4535-435F-A773-5DDE330B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285EE-AAD2-4A43-8B34-02FFFE5695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9E021-C242-41A8-B7FD-31EC358EC2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3F43B-6585-455E-A08D-E6B9DA95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39E0B-765E-408F-BAD7-05FF7D62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1B15B-13DA-4CF8-9FFA-755EC701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97512-305E-44F0-885C-ABEC3E0A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8C27-AEC0-481A-A258-74C7BC49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622F3-1587-463C-BED1-1C89044A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1651F-4CAC-4EBA-AF98-BBD1CBFB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65E63-F57E-4755-BEA8-23A1C726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7212E-8349-4B72-A461-A654FA2A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F1F092-8D47-4C7B-A7CB-F1DF143D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051B2-5CC0-423D-92C0-BB81B8E2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81CBA-A9EE-4809-8395-3729DC2740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D6A6E8-D0B5-470F-812C-3C2E5E54D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58C19E-9717-4B49-B61E-CA0B357C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C2B97D-F727-4EE2-8CE4-E1388FBA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506A-9C0C-456F-A342-7D28170C49F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B358-8E25-445D-B872-69C97A59090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1BB6-7C03-44BA-AC3D-6E44260414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32EE-8D88-4A9F-BB46-16D5DEE6C8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7314-4B99-454F-8FDB-C09D4233ED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6116-B48A-48B4-AE78-B031C296DED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3448-C6FA-4C75-986F-2BAF677EE9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1D75-A6E4-468C-9CCC-6E41DDE0650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8F9A-02E4-47E9-86BD-C9E55249A7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9EC7-C695-42CA-BD36-3704FD5E4E4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D1A1-0099-4D00-A131-CC0950DE8A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CDFA-2235-4A39-B529-AF1AE103E81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2F1A-EC53-4EEF-B501-B948D835453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0696-79CA-41ED-B987-A629EF7CCF7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037B-FB39-4F4F-ACB1-85F872605FC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5D02-214D-47AA-8E45-B43783623DA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3F8F-599E-4451-BCB8-0F01CFE0EFB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0CB7-CEAC-4BCF-894C-43AD3B349A8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5C70-E9E6-4C89-A987-6EBCA6B4ACF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6392-73B9-4DF6-BC5F-ADD1CB7F4C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021E-0638-4C05-BA19-3ABC2EDC9F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7DC2-1157-449E-B923-C3EAE977061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A100-46AE-43C3-BF69-C95183689A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AF32-334B-44EE-A2AB-6820921712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Oval 5"/>
          <p:cNvSpPr/>
          <p:nvPr/>
        </p:nvSpPr>
        <p:spPr>
          <a:xfrm>
            <a:off x="2868480" y="270360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2327400" y="2652840"/>
            <a:ext cx="604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吨 的 认 识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284560" y="2448000"/>
            <a:ext cx="3449520" cy="360"/>
            <a:chOff x="2284560" y="2448000"/>
            <a:chExt cx="3449520" cy="360"/>
          </a:xfrm>
        </p:grpSpPr>
        <p:sp>
          <p:nvSpPr>
            <p:cNvPr id="989" name="Line 10"/>
            <p:cNvSpPr/>
            <p:nvPr/>
          </p:nvSpPr>
          <p:spPr>
            <a:xfrm>
              <a:off x="2284560" y="2448000"/>
              <a:ext cx="34495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>
              <a:off x="2284560" y="2448000"/>
              <a:ext cx="3449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231840" y="1744560"/>
            <a:ext cx="53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测 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00" name="椭圆 3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1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8" name="文本框 99"/>
          <p:cNvSpPr/>
          <p:nvPr/>
        </p:nvSpPr>
        <p:spPr>
          <a:xfrm>
            <a:off x="279360" y="1039680"/>
            <a:ext cx="7145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选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鸡蛋约重（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1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1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克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1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辆汽车载重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，合（  ）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70      B.7000     C.700     D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1"/>
          <p:cNvSpPr/>
          <p:nvPr/>
        </p:nvSpPr>
        <p:spPr>
          <a:xfrm>
            <a:off x="3581280" y="1833480"/>
            <a:ext cx="54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2"/>
          <p:cNvSpPr/>
          <p:nvPr/>
        </p:nvSpPr>
        <p:spPr>
          <a:xfrm>
            <a:off x="6019920" y="3059280"/>
            <a:ext cx="53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1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1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14" name="椭圆 3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2" name="文本框 99"/>
          <p:cNvSpPr/>
          <p:nvPr/>
        </p:nvSpPr>
        <p:spPr>
          <a:xfrm>
            <a:off x="279360" y="957240"/>
            <a:ext cx="8028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0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克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9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组合 11"/>
          <p:cNvGrpSpPr/>
          <p:nvPr/>
        </p:nvGrpSpPr>
        <p:grpSpPr>
          <a:xfrm>
            <a:off x="425520" y="3070080"/>
            <a:ext cx="8418240" cy="1200240"/>
            <a:chOff x="425520" y="3070080"/>
            <a:chExt cx="8418240" cy="1200240"/>
          </a:xfrm>
        </p:grpSpPr>
        <p:sp>
          <p:nvSpPr>
            <p:cNvPr id="1224" name="文本框 1"/>
            <p:cNvSpPr/>
            <p:nvPr/>
          </p:nvSpPr>
          <p:spPr>
            <a:xfrm>
              <a:off x="425520" y="3070080"/>
              <a:ext cx="15138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000</a:t>
              </a:r>
              <a:r>
                <a:rPr b="0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文本框 2"/>
            <p:cNvSpPr/>
            <p:nvPr/>
          </p:nvSpPr>
          <p:spPr>
            <a:xfrm>
              <a:off x="2094480" y="3304440"/>
              <a:ext cx="3942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文本框 4"/>
            <p:cNvSpPr/>
            <p:nvPr/>
          </p:nvSpPr>
          <p:spPr>
            <a:xfrm>
              <a:off x="2863440" y="3070800"/>
              <a:ext cx="15138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900</a:t>
              </a:r>
              <a:r>
                <a:rPr b="0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文本框 6"/>
            <p:cNvSpPr/>
            <p:nvPr/>
          </p:nvSpPr>
          <p:spPr>
            <a:xfrm>
              <a:off x="4449240" y="3304440"/>
              <a:ext cx="3942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文本框 8"/>
            <p:cNvSpPr/>
            <p:nvPr/>
          </p:nvSpPr>
          <p:spPr>
            <a:xfrm>
              <a:off x="5081040" y="3070800"/>
              <a:ext cx="102528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0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文本框 9"/>
            <p:cNvSpPr/>
            <p:nvPr/>
          </p:nvSpPr>
          <p:spPr>
            <a:xfrm>
              <a:off x="7024680" y="3070800"/>
              <a:ext cx="181908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005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千</a:t>
              </a:r>
              <a:r>
                <a:rPr b="0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文本框 10"/>
            <p:cNvSpPr/>
            <p:nvPr/>
          </p:nvSpPr>
          <p:spPr>
            <a:xfrm>
              <a:off x="6251400" y="3304800"/>
              <a:ext cx="3942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3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234" name="椭圆 3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3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42" name="文本框 99"/>
          <p:cNvSpPr/>
          <p:nvPr/>
        </p:nvSpPr>
        <p:spPr>
          <a:xfrm>
            <a:off x="293760" y="996840"/>
            <a:ext cx="834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司机王叔叔要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货物，他的卡车载重量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。王叔叔要运几次才能把货物全部运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文本框 1"/>
          <p:cNvSpPr/>
          <p:nvPr/>
        </p:nvSpPr>
        <p:spPr>
          <a:xfrm>
            <a:off x="1371600" y="2382840"/>
            <a:ext cx="26146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仿宋"/>
              </a:rPr>
              <a:t>90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千克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文本框 2"/>
          <p:cNvSpPr/>
          <p:nvPr/>
        </p:nvSpPr>
        <p:spPr>
          <a:xfrm>
            <a:off x="1390680" y="3440160"/>
            <a:ext cx="25747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=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文本框 4"/>
          <p:cNvSpPr/>
          <p:nvPr/>
        </p:nvSpPr>
        <p:spPr>
          <a:xfrm>
            <a:off x="698400" y="4486320"/>
            <a:ext cx="711828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王叔叔要运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次才能把货物全部运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34920" y="79200"/>
            <a:ext cx="3244680" cy="525600"/>
            <a:chOff x="34920" y="7920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5400" y="792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34920" y="174960"/>
              <a:ext cx="429840" cy="271800"/>
              <a:chOff x="34920" y="174960"/>
              <a:chExt cx="429840" cy="271800"/>
            </a:xfrm>
          </p:grpSpPr>
          <p:sp>
            <p:nvSpPr>
              <p:cNvPr id="1001" name="椭圆 3"/>
              <p:cNvSpPr/>
              <p:nvPr/>
            </p:nvSpPr>
            <p:spPr>
              <a:xfrm rot="16200000">
                <a:off x="277920" y="337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080" y="3013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77920" y="211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080" y="1893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0" y="3175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" y="2894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20" y="202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34920" y="1749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矩形 5"/>
          <p:cNvSpPr/>
          <p:nvPr/>
        </p:nvSpPr>
        <p:spPr>
          <a:xfrm>
            <a:off x="684360" y="16207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吨＝（     ）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6"/>
          <p:cNvSpPr/>
          <p:nvPr/>
        </p:nvSpPr>
        <p:spPr>
          <a:xfrm>
            <a:off x="684360" y="2195640"/>
            <a:ext cx="38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吨＝（     ）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7"/>
          <p:cNvSpPr/>
          <p:nvPr/>
        </p:nvSpPr>
        <p:spPr>
          <a:xfrm>
            <a:off x="4572000" y="2195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千克＝（        ）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8"/>
          <p:cNvSpPr/>
          <p:nvPr/>
        </p:nvSpPr>
        <p:spPr>
          <a:xfrm>
            <a:off x="4572000" y="1620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千克＝（        ）千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15"/>
          <p:cNvSpPr/>
          <p:nvPr/>
        </p:nvSpPr>
        <p:spPr>
          <a:xfrm>
            <a:off x="1828440" y="1620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16"/>
          <p:cNvSpPr/>
          <p:nvPr/>
        </p:nvSpPr>
        <p:spPr>
          <a:xfrm>
            <a:off x="7092720" y="1620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17"/>
          <p:cNvSpPr/>
          <p:nvPr/>
        </p:nvSpPr>
        <p:spPr>
          <a:xfrm>
            <a:off x="2603160" y="2195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18"/>
          <p:cNvSpPr/>
          <p:nvPr/>
        </p:nvSpPr>
        <p:spPr>
          <a:xfrm>
            <a:off x="6580080" y="2195640"/>
            <a:ext cx="6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1"/>
          <p:cNvSpPr/>
          <p:nvPr/>
        </p:nvSpPr>
        <p:spPr>
          <a:xfrm>
            <a:off x="468360" y="900000"/>
            <a:ext cx="4821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（一）填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5"/>
          <p:cNvSpPr/>
          <p:nvPr/>
        </p:nvSpPr>
        <p:spPr>
          <a:xfrm>
            <a:off x="468360" y="3143160"/>
            <a:ext cx="5253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（二）判断对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6"/>
          <p:cNvSpPr/>
          <p:nvPr/>
        </p:nvSpPr>
        <p:spPr>
          <a:xfrm>
            <a:off x="687240" y="3933720"/>
            <a:ext cx="66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. 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千克铁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千克棉花重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6"/>
          <p:cNvSpPr/>
          <p:nvPr/>
        </p:nvSpPr>
        <p:spPr>
          <a:xfrm>
            <a:off x="687240" y="4454640"/>
            <a:ext cx="84567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米、分米、厘米、毫米，每相邻两个单位之间的进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都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十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6"/>
          <p:cNvSpPr/>
          <p:nvPr/>
        </p:nvSpPr>
        <p:spPr>
          <a:xfrm>
            <a:off x="684360" y="5411880"/>
            <a:ext cx="57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一个篮球约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千克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21"/>
          <p:cNvSpPr/>
          <p:nvPr/>
        </p:nvSpPr>
        <p:spPr>
          <a:xfrm>
            <a:off x="2540160" y="4867200"/>
            <a:ext cx="852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22"/>
          <p:cNvSpPr/>
          <p:nvPr/>
        </p:nvSpPr>
        <p:spPr>
          <a:xfrm>
            <a:off x="4830840" y="3865680"/>
            <a:ext cx="625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23"/>
          <p:cNvSpPr/>
          <p:nvPr/>
        </p:nvSpPr>
        <p:spPr>
          <a:xfrm>
            <a:off x="4591080" y="5334120"/>
            <a:ext cx="855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宋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组合 2"/>
          <p:cNvGrpSpPr/>
          <p:nvPr/>
        </p:nvGrpSpPr>
        <p:grpSpPr>
          <a:xfrm>
            <a:off x="34920" y="79200"/>
            <a:ext cx="3244680" cy="525600"/>
            <a:chOff x="34920" y="79200"/>
            <a:chExt cx="3244680" cy="525600"/>
          </a:xfrm>
        </p:grpSpPr>
        <p:pic>
          <p:nvPicPr>
            <p:cNvPr id="102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5400" y="792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7" name="组合 4"/>
            <p:cNvGrpSpPr/>
            <p:nvPr/>
          </p:nvGrpSpPr>
          <p:grpSpPr>
            <a:xfrm>
              <a:off x="34920" y="174960"/>
              <a:ext cx="429840" cy="271800"/>
              <a:chOff x="34920" y="174960"/>
              <a:chExt cx="429840" cy="271800"/>
            </a:xfrm>
          </p:grpSpPr>
          <p:sp>
            <p:nvSpPr>
              <p:cNvPr id="1028" name="椭圆 3"/>
              <p:cNvSpPr/>
              <p:nvPr/>
            </p:nvSpPr>
            <p:spPr>
              <a:xfrm rot="16200000">
                <a:off x="277920" y="337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080" y="3013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0" name="椭圆 29"/>
              <p:cNvSpPr/>
              <p:nvPr/>
            </p:nvSpPr>
            <p:spPr>
              <a:xfrm rot="16200000">
                <a:off x="277920" y="211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080" y="1893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0" y="3175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" y="2894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20" y="202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34920" y="1749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36" name="TextBox 2"/>
          <p:cNvSpPr/>
          <p:nvPr/>
        </p:nvSpPr>
        <p:spPr>
          <a:xfrm>
            <a:off x="917640" y="863640"/>
            <a:ext cx="82357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面两辆车可以用来运煤，如果每次运煤的车都装满，怎样安排能恰好运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Picture 6" descr="D:\我的文档-桌面-收藏夹\桌面\2.png"/>
          <p:cNvPicPr/>
          <p:nvPr/>
        </p:nvPicPr>
        <p:blipFill>
          <a:blip r:embed="rId8"/>
          <a:stretch/>
        </p:blipFill>
        <p:spPr>
          <a:xfrm>
            <a:off x="5762520" y="1704960"/>
            <a:ext cx="2208240" cy="1476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2" descr="D:\我的文档-桌面-收藏夹\桌面\1.png"/>
          <p:cNvPicPr/>
          <p:nvPr/>
        </p:nvPicPr>
        <p:blipFill>
          <a:blip r:embed="rId9"/>
          <a:stretch/>
        </p:blipFill>
        <p:spPr>
          <a:xfrm>
            <a:off x="272880" y="1704960"/>
            <a:ext cx="2486160" cy="1660680"/>
          </a:xfrm>
          <a:prstGeom prst="rect">
            <a:avLst/>
          </a:prstGeom>
          <a:ln w="0">
            <a:noFill/>
          </a:ln>
        </p:spPr>
      </p:pic>
      <p:sp>
        <p:nvSpPr>
          <p:cNvPr id="1039" name="TextBox 6"/>
          <p:cNvSpPr/>
          <p:nvPr/>
        </p:nvSpPr>
        <p:spPr>
          <a:xfrm>
            <a:off x="728640" y="3000240"/>
            <a:ext cx="171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载质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Box 7"/>
          <p:cNvSpPr/>
          <p:nvPr/>
        </p:nvSpPr>
        <p:spPr>
          <a:xfrm>
            <a:off x="6256440" y="3000240"/>
            <a:ext cx="17143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载质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Picture 4" descr="D:\我的文档-桌面-收藏夹\桌面\20120620091906687副本.png"/>
          <p:cNvPicPr/>
          <p:nvPr/>
        </p:nvPicPr>
        <p:blipFill>
          <a:blip r:embed="rId10"/>
          <a:stretch/>
        </p:blipFill>
        <p:spPr>
          <a:xfrm>
            <a:off x="3095640" y="1704960"/>
            <a:ext cx="1593720" cy="1511280"/>
          </a:xfrm>
          <a:prstGeom prst="rect">
            <a:avLst/>
          </a:prstGeom>
          <a:ln w="0">
            <a:noFill/>
          </a:ln>
        </p:spPr>
      </p:pic>
      <p:sp>
        <p:nvSpPr>
          <p:cNvPr id="1042" name="八边形 16"/>
          <p:cNvSpPr/>
          <p:nvPr/>
        </p:nvSpPr>
        <p:spPr>
          <a:xfrm>
            <a:off x="216000" y="863640"/>
            <a:ext cx="51408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3"/>
          <p:cNvSpPr/>
          <p:nvPr/>
        </p:nvSpPr>
        <p:spPr>
          <a:xfrm>
            <a:off x="460440" y="376092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6d86a4"/>
                </a:solidFill>
                <a:latin typeface="Arial"/>
                <a:ea typeface="宋体"/>
              </a:rPr>
              <a:t>阅读与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4" name=""/>
          <p:cNvGraphicFramePr/>
          <p:nvPr/>
        </p:nvGraphicFramePr>
        <p:xfrm>
          <a:off x="1230480" y="4457880"/>
          <a:ext cx="4803480" cy="1279440"/>
        </p:xfrm>
        <a:graphic>
          <a:graphicData uri="http://schemas.openxmlformats.org/drawingml/2006/table">
            <a:tbl>
              <a:tblPr/>
              <a:tblGrid>
                <a:gridCol w="1182240"/>
                <a:gridCol w="3621240"/>
              </a:tblGrid>
              <a:tr h="63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已知条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红色卡车每次载煤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吨，蓝色卡车每次载煤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吨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7fb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求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怎样安排能恰好运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吨煤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组合 2"/>
          <p:cNvGrpSpPr/>
          <p:nvPr/>
        </p:nvGrpSpPr>
        <p:grpSpPr>
          <a:xfrm>
            <a:off x="34920" y="79200"/>
            <a:ext cx="3244680" cy="525600"/>
            <a:chOff x="34920" y="79200"/>
            <a:chExt cx="3244680" cy="525600"/>
          </a:xfrm>
        </p:grpSpPr>
        <p:pic>
          <p:nvPicPr>
            <p:cNvPr id="1046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85400" y="792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7" name="组合 4"/>
            <p:cNvGrpSpPr/>
            <p:nvPr/>
          </p:nvGrpSpPr>
          <p:grpSpPr>
            <a:xfrm>
              <a:off x="34920" y="174960"/>
              <a:ext cx="429840" cy="271800"/>
              <a:chOff x="34920" y="174960"/>
              <a:chExt cx="429840" cy="271800"/>
            </a:xfrm>
          </p:grpSpPr>
          <p:sp>
            <p:nvSpPr>
              <p:cNvPr id="1048" name="椭圆 6"/>
              <p:cNvSpPr/>
              <p:nvPr/>
            </p:nvSpPr>
            <p:spPr>
              <a:xfrm rot="16200000">
                <a:off x="277920" y="337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080" y="3013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0" name="椭圆 9"/>
              <p:cNvSpPr/>
              <p:nvPr/>
            </p:nvSpPr>
            <p:spPr>
              <a:xfrm rot="16200000">
                <a:off x="277920" y="211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1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080" y="1893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0" y="3175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" y="2894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20" y="202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34920" y="1749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056" name=""/>
          <p:cNvGraphicFramePr/>
          <p:nvPr/>
        </p:nvGraphicFramePr>
        <p:xfrm>
          <a:off x="1619280" y="3008160"/>
          <a:ext cx="6095880" cy="27972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派车方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运煤吨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</a:tbl>
          </a:graphicData>
        </a:graphic>
      </p:graphicFrame>
      <p:sp>
        <p:nvSpPr>
          <p:cNvPr id="1057" name="矩形 70"/>
          <p:cNvSpPr/>
          <p:nvPr/>
        </p:nvSpPr>
        <p:spPr>
          <a:xfrm>
            <a:off x="2128680" y="369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71"/>
          <p:cNvSpPr/>
          <p:nvPr/>
        </p:nvSpPr>
        <p:spPr>
          <a:xfrm>
            <a:off x="3633840" y="36939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72"/>
          <p:cNvSpPr/>
          <p:nvPr/>
        </p:nvSpPr>
        <p:spPr>
          <a:xfrm>
            <a:off x="5164200" y="36939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73"/>
          <p:cNvSpPr/>
          <p:nvPr/>
        </p:nvSpPr>
        <p:spPr>
          <a:xfrm>
            <a:off x="6621480" y="36939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74"/>
          <p:cNvSpPr/>
          <p:nvPr/>
        </p:nvSpPr>
        <p:spPr>
          <a:xfrm>
            <a:off x="2128680" y="41259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75"/>
          <p:cNvSpPr/>
          <p:nvPr/>
        </p:nvSpPr>
        <p:spPr>
          <a:xfrm>
            <a:off x="3633840" y="41259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76"/>
          <p:cNvSpPr/>
          <p:nvPr/>
        </p:nvSpPr>
        <p:spPr>
          <a:xfrm>
            <a:off x="5164200" y="41259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77"/>
          <p:cNvSpPr/>
          <p:nvPr/>
        </p:nvSpPr>
        <p:spPr>
          <a:xfrm>
            <a:off x="6621480" y="412596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78"/>
          <p:cNvSpPr/>
          <p:nvPr/>
        </p:nvSpPr>
        <p:spPr>
          <a:xfrm>
            <a:off x="2128680" y="454032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79"/>
          <p:cNvSpPr/>
          <p:nvPr/>
        </p:nvSpPr>
        <p:spPr>
          <a:xfrm>
            <a:off x="5164200" y="45403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80"/>
          <p:cNvSpPr/>
          <p:nvPr/>
        </p:nvSpPr>
        <p:spPr>
          <a:xfrm>
            <a:off x="3633840" y="45403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81"/>
          <p:cNvSpPr/>
          <p:nvPr/>
        </p:nvSpPr>
        <p:spPr>
          <a:xfrm>
            <a:off x="6554880" y="45403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82"/>
          <p:cNvSpPr/>
          <p:nvPr/>
        </p:nvSpPr>
        <p:spPr>
          <a:xfrm>
            <a:off x="2128680" y="49626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Box 83"/>
          <p:cNvSpPr/>
          <p:nvPr/>
        </p:nvSpPr>
        <p:spPr>
          <a:xfrm>
            <a:off x="3633840" y="496260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84"/>
          <p:cNvSpPr/>
          <p:nvPr/>
        </p:nvSpPr>
        <p:spPr>
          <a:xfrm>
            <a:off x="5164200" y="49626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85"/>
          <p:cNvSpPr/>
          <p:nvPr/>
        </p:nvSpPr>
        <p:spPr>
          <a:xfrm>
            <a:off x="6621480" y="49626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86"/>
          <p:cNvSpPr/>
          <p:nvPr/>
        </p:nvSpPr>
        <p:spPr>
          <a:xfrm>
            <a:off x="2124000" y="53769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87"/>
          <p:cNvSpPr/>
          <p:nvPr/>
        </p:nvSpPr>
        <p:spPr>
          <a:xfrm>
            <a:off x="3633840" y="53769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88"/>
          <p:cNvSpPr/>
          <p:nvPr/>
        </p:nvSpPr>
        <p:spPr>
          <a:xfrm>
            <a:off x="5164200" y="537696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Box 89"/>
          <p:cNvSpPr/>
          <p:nvPr/>
        </p:nvSpPr>
        <p:spPr>
          <a:xfrm>
            <a:off x="6621480" y="53769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101"/>
          <p:cNvSpPr/>
          <p:nvPr/>
        </p:nvSpPr>
        <p:spPr>
          <a:xfrm>
            <a:off x="7197840" y="3637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102"/>
          <p:cNvSpPr/>
          <p:nvPr/>
        </p:nvSpPr>
        <p:spPr>
          <a:xfrm>
            <a:off x="7197840" y="49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图片 6221" descr="未标题-37"/>
          <p:cNvPicPr/>
          <p:nvPr/>
        </p:nvPicPr>
        <p:blipFill>
          <a:blip r:embed="rId8"/>
          <a:stretch/>
        </p:blipFill>
        <p:spPr>
          <a:xfrm>
            <a:off x="3203640" y="3070080"/>
            <a:ext cx="863640" cy="51912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6222" descr="未标题-38"/>
          <p:cNvPicPr/>
          <p:nvPr/>
        </p:nvPicPr>
        <p:blipFill>
          <a:blip r:embed="rId9"/>
          <a:stretch/>
        </p:blipFill>
        <p:spPr>
          <a:xfrm>
            <a:off x="4716360" y="3067200"/>
            <a:ext cx="933480" cy="579240"/>
          </a:xfrm>
          <a:prstGeom prst="rect">
            <a:avLst/>
          </a:prstGeom>
          <a:ln w="0">
            <a:noFill/>
          </a:ln>
        </p:spPr>
      </p:pic>
      <p:sp>
        <p:nvSpPr>
          <p:cNvPr id="1081" name="TextBox 3"/>
          <p:cNvSpPr/>
          <p:nvPr/>
        </p:nvSpPr>
        <p:spPr>
          <a:xfrm>
            <a:off x="246240" y="898560"/>
            <a:ext cx="2674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2" name="组合 17"/>
          <p:cNvGrpSpPr/>
          <p:nvPr/>
        </p:nvGrpSpPr>
        <p:grpSpPr>
          <a:xfrm>
            <a:off x="4500720" y="441360"/>
            <a:ext cx="4492440" cy="1218960"/>
            <a:chOff x="4500720" y="441360"/>
            <a:chExt cx="4492440" cy="1218960"/>
          </a:xfrm>
        </p:grpSpPr>
        <p:sp>
          <p:nvSpPr>
            <p:cNvPr id="1083" name="AutoShape 27"/>
            <p:cNvSpPr/>
            <p:nvPr/>
          </p:nvSpPr>
          <p:spPr>
            <a:xfrm>
              <a:off x="4500720" y="441360"/>
              <a:ext cx="3024000" cy="817920"/>
            </a:xfrm>
            <a:prstGeom prst="wedgeRoundRectCallout">
              <a:avLst>
                <a:gd name="adj1" fmla="val 60550"/>
                <a:gd name="adj2" fmla="val -1660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可以用列表的方法，把不同的方案都列出来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4" name="图片 16" descr="6)5][}VZ%@FXJ)FA]TI76$O"/>
            <p:cNvPicPr/>
            <p:nvPr/>
          </p:nvPicPr>
          <p:blipFill>
            <a:blip r:embed="rId10"/>
            <a:stretch/>
          </p:blipFill>
          <p:spPr>
            <a:xfrm>
              <a:off x="7868160" y="461520"/>
              <a:ext cx="1125000" cy="119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5" name="组合 19"/>
          <p:cNvGrpSpPr/>
          <p:nvPr/>
        </p:nvGrpSpPr>
        <p:grpSpPr>
          <a:xfrm>
            <a:off x="246240" y="1332000"/>
            <a:ext cx="5201640" cy="1076400"/>
            <a:chOff x="246240" y="1332000"/>
            <a:chExt cx="5201640" cy="1076400"/>
          </a:xfrm>
        </p:grpSpPr>
        <p:sp>
          <p:nvSpPr>
            <p:cNvPr id="1086" name="AutoShape 27"/>
            <p:cNvSpPr/>
            <p:nvPr/>
          </p:nvSpPr>
          <p:spPr>
            <a:xfrm>
              <a:off x="1343160" y="1332000"/>
              <a:ext cx="4104720" cy="430560"/>
            </a:xfrm>
            <a:prstGeom prst="wedgeRoundRectCallout">
              <a:avLst>
                <a:gd name="adj1" fmla="val -54976"/>
                <a:gd name="adj2" fmla="val -923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如果只用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吨的车，正好运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次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7" name="图片 18" descr="]@P`{@U$K{A7A$9804YYMFT"/>
            <p:cNvPicPr/>
            <p:nvPr/>
          </p:nvPicPr>
          <p:blipFill>
            <a:blip r:embed="rId11"/>
            <a:stretch/>
          </p:blipFill>
          <p:spPr>
            <a:xfrm>
              <a:off x="246240" y="1376280"/>
              <a:ext cx="812520" cy="103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8" name="组合 21"/>
          <p:cNvGrpSpPr/>
          <p:nvPr/>
        </p:nvGrpSpPr>
        <p:grpSpPr>
          <a:xfrm>
            <a:off x="314280" y="2408400"/>
            <a:ext cx="4459320" cy="1054080"/>
            <a:chOff x="314280" y="2408400"/>
            <a:chExt cx="4459320" cy="1054080"/>
          </a:xfrm>
        </p:grpSpPr>
        <p:sp>
          <p:nvSpPr>
            <p:cNvPr id="1089" name="AutoShape 27"/>
            <p:cNvSpPr/>
            <p:nvPr/>
          </p:nvSpPr>
          <p:spPr>
            <a:xfrm>
              <a:off x="1343880" y="2408400"/>
              <a:ext cx="3429720" cy="430560"/>
            </a:xfrm>
            <a:prstGeom prst="wedgeRoundRectCallout">
              <a:avLst>
                <a:gd name="adj1" fmla="val -55675"/>
                <a:gd name="adj2" fmla="val -89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我用</a:t>
              </a:r>
              <a:r>
                <a:rPr b="0" lang="en-US" sz="2000" spc="-1" strike="noStrike">
                  <a:solidFill>
                    <a:srgbClr val="1c1c1c"/>
                  </a:solidFill>
                  <a:latin typeface="宋体"/>
                </a:rPr>
                <a:t>2</a:t>
              </a:r>
              <a:r>
                <a:rPr b="0" lang="zh-CN" sz="2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吨的</a:t>
              </a:r>
              <a:r>
                <a:rPr b="0" lang="en-US" sz="2000" spc="-1" strike="noStrike">
                  <a:solidFill>
                    <a:srgbClr val="1c1c1c"/>
                  </a:solidFill>
                  <a:latin typeface="宋体"/>
                </a:rPr>
                <a:t>3</a:t>
              </a:r>
              <a:r>
                <a:rPr b="0" lang="zh-CN" sz="2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次，</a:t>
              </a:r>
              <a:r>
                <a:rPr b="0" lang="en-US" sz="2000" spc="-1" strike="noStrike">
                  <a:solidFill>
                    <a:srgbClr val="1c1c1c"/>
                  </a:solidFill>
                  <a:latin typeface="宋体"/>
                </a:rPr>
                <a:t>3</a:t>
              </a:r>
              <a:r>
                <a:rPr b="0" lang="zh-CN" sz="2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吨的</a:t>
              </a:r>
              <a:r>
                <a:rPr b="0" lang="en-US" sz="2000" spc="-1" strike="noStrike">
                  <a:solidFill>
                    <a:srgbClr val="1c1c1c"/>
                  </a:solidFill>
                  <a:latin typeface="宋体"/>
                </a:rPr>
                <a:t>1</a:t>
              </a:r>
              <a:r>
                <a:rPr b="0" lang="zh-CN" sz="2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次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0" name="图片 20" descr="]@P`{@U$K{A7A$9804YYMFT"/>
            <p:cNvPicPr/>
            <p:nvPr/>
          </p:nvPicPr>
          <p:blipFill>
            <a:blip r:embed="rId12"/>
            <a:stretch/>
          </p:blipFill>
          <p:spPr>
            <a:xfrm>
              <a:off x="314280" y="2408400"/>
              <a:ext cx="827640" cy="105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1" name="组合 23"/>
          <p:cNvGrpSpPr/>
          <p:nvPr/>
        </p:nvGrpSpPr>
        <p:grpSpPr>
          <a:xfrm>
            <a:off x="5097600" y="1805040"/>
            <a:ext cx="3948120" cy="1028520"/>
            <a:chOff x="5097600" y="1805040"/>
            <a:chExt cx="3948120" cy="1028520"/>
          </a:xfrm>
        </p:grpSpPr>
        <p:sp>
          <p:nvSpPr>
            <p:cNvPr id="1092" name="AutoShape 27"/>
            <p:cNvSpPr/>
            <p:nvPr/>
          </p:nvSpPr>
          <p:spPr>
            <a:xfrm>
              <a:off x="6165360" y="1855800"/>
              <a:ext cx="2880360" cy="430560"/>
            </a:xfrm>
            <a:prstGeom prst="wedgeRoundRectCallout">
              <a:avLst>
                <a:gd name="adj1" fmla="val -58421"/>
                <a:gd name="adj2" fmla="val 194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我还可以这样想</a:t>
              </a:r>
              <a:r>
                <a:rPr b="0" lang="en-US" sz="2000" spc="-1" strike="noStrike">
                  <a:solidFill>
                    <a:srgbClr val="1c1c1c"/>
                  </a:solidFill>
                  <a:latin typeface="宋体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3" name="图片 22" descr="]@P`{@U$K{A7A$9804YYMFT"/>
            <p:cNvPicPr/>
            <p:nvPr/>
          </p:nvPicPr>
          <p:blipFill>
            <a:blip r:embed="rId13"/>
            <a:stretch/>
          </p:blipFill>
          <p:spPr>
            <a:xfrm>
              <a:off x="5097600" y="1805040"/>
              <a:ext cx="808560" cy="1028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组合 2"/>
          <p:cNvGrpSpPr/>
          <p:nvPr/>
        </p:nvGrpSpPr>
        <p:grpSpPr>
          <a:xfrm>
            <a:off x="34920" y="79200"/>
            <a:ext cx="3244680" cy="525600"/>
            <a:chOff x="34920" y="79200"/>
            <a:chExt cx="3244680" cy="525600"/>
          </a:xfrm>
        </p:grpSpPr>
        <p:pic>
          <p:nvPicPr>
            <p:cNvPr id="1095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85400" y="792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6" name="组合 4"/>
            <p:cNvGrpSpPr/>
            <p:nvPr/>
          </p:nvGrpSpPr>
          <p:grpSpPr>
            <a:xfrm>
              <a:off x="34920" y="174960"/>
              <a:ext cx="429840" cy="271800"/>
              <a:chOff x="34920" y="174960"/>
              <a:chExt cx="429840" cy="271800"/>
            </a:xfrm>
          </p:grpSpPr>
          <p:sp>
            <p:nvSpPr>
              <p:cNvPr id="1097" name="椭圆 6"/>
              <p:cNvSpPr/>
              <p:nvPr/>
            </p:nvSpPr>
            <p:spPr>
              <a:xfrm rot="16200000">
                <a:off x="277920" y="337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8" name="椭圆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080" y="3013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椭圆 9"/>
              <p:cNvSpPr/>
              <p:nvPr/>
            </p:nvSpPr>
            <p:spPr>
              <a:xfrm rot="16200000">
                <a:off x="277920" y="211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0" name="椭圆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080" y="1893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0" y="3175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" y="2894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20" y="202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34920" y="1749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aphicFrame>
        <p:nvGraphicFramePr>
          <p:cNvPr id="1105" name=""/>
          <p:cNvGraphicFramePr/>
          <p:nvPr/>
        </p:nvGraphicFramePr>
        <p:xfrm>
          <a:off x="1616040" y="3075120"/>
          <a:ext cx="6095880" cy="27972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派车方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楷体_GB2312"/>
                        </a:rPr>
                        <a:t>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运煤吨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cce4"/>
                    </a:solidFill>
                  </a:tcPr>
                </a:tc>
              </a:tr>
            </a:tbl>
          </a:graphicData>
        </a:graphic>
      </p:graphicFrame>
      <p:sp>
        <p:nvSpPr>
          <p:cNvPr id="1106" name="矩形 70"/>
          <p:cNvSpPr/>
          <p:nvPr/>
        </p:nvSpPr>
        <p:spPr>
          <a:xfrm>
            <a:off x="2128680" y="376560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71"/>
          <p:cNvSpPr/>
          <p:nvPr/>
        </p:nvSpPr>
        <p:spPr>
          <a:xfrm>
            <a:off x="3633840" y="37656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Box 72"/>
          <p:cNvSpPr/>
          <p:nvPr/>
        </p:nvSpPr>
        <p:spPr>
          <a:xfrm>
            <a:off x="5164200" y="37656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73"/>
          <p:cNvSpPr/>
          <p:nvPr/>
        </p:nvSpPr>
        <p:spPr>
          <a:xfrm>
            <a:off x="6621480" y="37656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74"/>
          <p:cNvSpPr/>
          <p:nvPr/>
        </p:nvSpPr>
        <p:spPr>
          <a:xfrm>
            <a:off x="2128680" y="41972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TextBox 75"/>
          <p:cNvSpPr/>
          <p:nvPr/>
        </p:nvSpPr>
        <p:spPr>
          <a:xfrm>
            <a:off x="3633840" y="4197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Box 76"/>
          <p:cNvSpPr/>
          <p:nvPr/>
        </p:nvSpPr>
        <p:spPr>
          <a:xfrm>
            <a:off x="5164200" y="41972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77"/>
          <p:cNvSpPr/>
          <p:nvPr/>
        </p:nvSpPr>
        <p:spPr>
          <a:xfrm>
            <a:off x="6621480" y="41972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78"/>
          <p:cNvSpPr/>
          <p:nvPr/>
        </p:nvSpPr>
        <p:spPr>
          <a:xfrm>
            <a:off x="2128680" y="46116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Box 79"/>
          <p:cNvSpPr/>
          <p:nvPr/>
        </p:nvSpPr>
        <p:spPr>
          <a:xfrm>
            <a:off x="5164200" y="46116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80"/>
          <p:cNvSpPr/>
          <p:nvPr/>
        </p:nvSpPr>
        <p:spPr>
          <a:xfrm>
            <a:off x="3633840" y="46116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TextBox 81"/>
          <p:cNvSpPr/>
          <p:nvPr/>
        </p:nvSpPr>
        <p:spPr>
          <a:xfrm>
            <a:off x="6554880" y="46116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82"/>
          <p:cNvSpPr/>
          <p:nvPr/>
        </p:nvSpPr>
        <p:spPr>
          <a:xfrm>
            <a:off x="2128680" y="50338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83"/>
          <p:cNvSpPr/>
          <p:nvPr/>
        </p:nvSpPr>
        <p:spPr>
          <a:xfrm>
            <a:off x="3633840" y="503388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84"/>
          <p:cNvSpPr/>
          <p:nvPr/>
        </p:nvSpPr>
        <p:spPr>
          <a:xfrm>
            <a:off x="5164200" y="5033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85"/>
          <p:cNvSpPr/>
          <p:nvPr/>
        </p:nvSpPr>
        <p:spPr>
          <a:xfrm>
            <a:off x="6621480" y="503388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86"/>
          <p:cNvSpPr/>
          <p:nvPr/>
        </p:nvSpPr>
        <p:spPr>
          <a:xfrm>
            <a:off x="2124000" y="54482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87"/>
          <p:cNvSpPr/>
          <p:nvPr/>
        </p:nvSpPr>
        <p:spPr>
          <a:xfrm>
            <a:off x="3633840" y="544824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88"/>
          <p:cNvSpPr/>
          <p:nvPr/>
        </p:nvSpPr>
        <p:spPr>
          <a:xfrm>
            <a:off x="5164200" y="5448240"/>
            <a:ext cx="79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89"/>
          <p:cNvSpPr/>
          <p:nvPr/>
        </p:nvSpPr>
        <p:spPr>
          <a:xfrm>
            <a:off x="6621480" y="54482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75"/>
          <p:cNvSpPr/>
          <p:nvPr/>
        </p:nvSpPr>
        <p:spPr>
          <a:xfrm>
            <a:off x="7197840" y="37069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76"/>
          <p:cNvSpPr/>
          <p:nvPr/>
        </p:nvSpPr>
        <p:spPr>
          <a:xfrm>
            <a:off x="7197840" y="49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图片 7241" descr="未标题-37"/>
          <p:cNvPicPr/>
          <p:nvPr/>
        </p:nvPicPr>
        <p:blipFill>
          <a:blip r:embed="rId8"/>
          <a:stretch/>
        </p:blipFill>
        <p:spPr>
          <a:xfrm>
            <a:off x="3203640" y="3141720"/>
            <a:ext cx="863640" cy="519120"/>
          </a:xfrm>
          <a:prstGeom prst="rect">
            <a:avLst/>
          </a:prstGeom>
          <a:ln w="0">
            <a:noFill/>
          </a:ln>
        </p:spPr>
      </p:pic>
      <p:pic>
        <p:nvPicPr>
          <p:cNvPr id="1129" name="图片 7242" descr="未标题-38"/>
          <p:cNvPicPr/>
          <p:nvPr/>
        </p:nvPicPr>
        <p:blipFill>
          <a:blip r:embed="rId9"/>
          <a:stretch/>
        </p:blipFill>
        <p:spPr>
          <a:xfrm>
            <a:off x="4716360" y="3132000"/>
            <a:ext cx="933480" cy="579600"/>
          </a:xfrm>
          <a:prstGeom prst="rect">
            <a:avLst/>
          </a:prstGeom>
          <a:ln w="0">
            <a:noFill/>
          </a:ln>
        </p:spPr>
      </p:pic>
      <p:sp>
        <p:nvSpPr>
          <p:cNvPr id="1130" name="TextBox 3"/>
          <p:cNvSpPr/>
          <p:nvPr/>
        </p:nvSpPr>
        <p:spPr>
          <a:xfrm>
            <a:off x="246240" y="898560"/>
            <a:ext cx="2674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1" name="组合 3"/>
          <p:cNvGrpSpPr/>
          <p:nvPr/>
        </p:nvGrpSpPr>
        <p:grpSpPr>
          <a:xfrm>
            <a:off x="34920" y="1600200"/>
            <a:ext cx="4530600" cy="1463760"/>
            <a:chOff x="34920" y="1600200"/>
            <a:chExt cx="4530600" cy="1463760"/>
          </a:xfrm>
        </p:grpSpPr>
        <p:sp>
          <p:nvSpPr>
            <p:cNvPr id="1132" name="AutoShape 27"/>
            <p:cNvSpPr/>
            <p:nvPr/>
          </p:nvSpPr>
          <p:spPr>
            <a:xfrm>
              <a:off x="1541520" y="1677960"/>
              <a:ext cx="3024000" cy="891000"/>
            </a:xfrm>
            <a:prstGeom prst="wedgeRoundRectCallout">
              <a:avLst>
                <a:gd name="adj1" fmla="val -59601"/>
                <a:gd name="adj2" fmla="val -525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派车方案①和④都可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恰好把煤运完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3" name="图片 22" descr="]@P`{@U$K{A7A$9804YYMFT"/>
            <p:cNvPicPr/>
            <p:nvPr/>
          </p:nvPicPr>
          <p:blipFill>
            <a:blip r:embed="rId10"/>
            <a:stretch/>
          </p:blipFill>
          <p:spPr>
            <a:xfrm>
              <a:off x="34920" y="1600200"/>
              <a:ext cx="1152720" cy="146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4" name="组合 5"/>
          <p:cNvGrpSpPr/>
          <p:nvPr/>
        </p:nvGrpSpPr>
        <p:grpSpPr>
          <a:xfrm>
            <a:off x="4896000" y="623880"/>
            <a:ext cx="3563640" cy="2304720"/>
            <a:chOff x="4896000" y="623880"/>
            <a:chExt cx="3563640" cy="2304720"/>
          </a:xfrm>
        </p:grpSpPr>
        <p:sp>
          <p:nvSpPr>
            <p:cNvPr id="1135" name="AutoShape 27"/>
            <p:cNvSpPr/>
            <p:nvPr/>
          </p:nvSpPr>
          <p:spPr>
            <a:xfrm>
              <a:off x="4896000" y="1604880"/>
              <a:ext cx="3237480" cy="1323720"/>
            </a:xfrm>
            <a:prstGeom prst="wedgeRoundRectCallout">
              <a:avLst>
                <a:gd name="adj1" fmla="val 31912"/>
                <a:gd name="adj2" fmla="val -61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检验一下，看第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①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两种方案是不是恰好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完</a:t>
              </a:r>
              <a:r>
                <a:rPr b="0" lang="en-US" sz="20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吨煤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6" name="图片 16" descr="6)5][}VZ%@FXJ)FA]TI76$O"/>
            <p:cNvPicPr/>
            <p:nvPr/>
          </p:nvPicPr>
          <p:blipFill>
            <a:blip r:embed="rId11"/>
            <a:stretch/>
          </p:blipFill>
          <p:spPr>
            <a:xfrm>
              <a:off x="7581240" y="623880"/>
              <a:ext cx="878400" cy="937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7" name="组合 2"/>
          <p:cNvGrpSpPr/>
          <p:nvPr/>
        </p:nvGrpSpPr>
        <p:grpSpPr>
          <a:xfrm>
            <a:off x="34920" y="79200"/>
            <a:ext cx="3244680" cy="525600"/>
            <a:chOff x="34920" y="79200"/>
            <a:chExt cx="3244680" cy="525600"/>
          </a:xfrm>
        </p:grpSpPr>
        <p:pic>
          <p:nvPicPr>
            <p:cNvPr id="113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5400" y="792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9" name="组合 4"/>
            <p:cNvGrpSpPr/>
            <p:nvPr/>
          </p:nvGrpSpPr>
          <p:grpSpPr>
            <a:xfrm>
              <a:off x="34920" y="174960"/>
              <a:ext cx="429840" cy="271800"/>
              <a:chOff x="34920" y="174960"/>
              <a:chExt cx="429840" cy="271800"/>
            </a:xfrm>
          </p:grpSpPr>
          <p:sp>
            <p:nvSpPr>
              <p:cNvPr id="1140" name="椭圆 3"/>
              <p:cNvSpPr/>
              <p:nvPr/>
            </p:nvSpPr>
            <p:spPr>
              <a:xfrm rot="16200000">
                <a:off x="277920" y="337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1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080" y="3013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2" name="椭圆 29"/>
              <p:cNvSpPr/>
              <p:nvPr/>
            </p:nvSpPr>
            <p:spPr>
              <a:xfrm rot="16200000">
                <a:off x="277920" y="211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080" y="1893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0" y="3175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" y="2894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20" y="202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34920" y="1749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8" name="TextBox 2"/>
          <p:cNvSpPr/>
          <p:nvPr/>
        </p:nvSpPr>
        <p:spPr>
          <a:xfrm>
            <a:off x="917640" y="863640"/>
            <a:ext cx="82357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下面两辆车可以用来运煤，如果每次运煤的车都装满，怎样安排能恰好运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6" descr="D:\我的文档-桌面-收藏夹\桌面\2.png"/>
          <p:cNvPicPr/>
          <p:nvPr/>
        </p:nvPicPr>
        <p:blipFill>
          <a:blip r:embed="rId8"/>
          <a:stretch/>
        </p:blipFill>
        <p:spPr>
          <a:xfrm>
            <a:off x="5762520" y="1704960"/>
            <a:ext cx="2208240" cy="147636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" descr="D:\我的文档-桌面-收藏夹\桌面\1.png"/>
          <p:cNvPicPr/>
          <p:nvPr/>
        </p:nvPicPr>
        <p:blipFill>
          <a:blip r:embed="rId9"/>
          <a:stretch/>
        </p:blipFill>
        <p:spPr>
          <a:xfrm>
            <a:off x="272880" y="1704960"/>
            <a:ext cx="2486160" cy="1660680"/>
          </a:xfrm>
          <a:prstGeom prst="rect">
            <a:avLst/>
          </a:prstGeom>
          <a:ln w="0">
            <a:noFill/>
          </a:ln>
        </p:spPr>
      </p:pic>
      <p:sp>
        <p:nvSpPr>
          <p:cNvPr id="1151" name="TextBox 6"/>
          <p:cNvSpPr/>
          <p:nvPr/>
        </p:nvSpPr>
        <p:spPr>
          <a:xfrm>
            <a:off x="728640" y="3000240"/>
            <a:ext cx="17146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载质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7"/>
          <p:cNvSpPr/>
          <p:nvPr/>
        </p:nvSpPr>
        <p:spPr>
          <a:xfrm>
            <a:off x="6256440" y="3000240"/>
            <a:ext cx="171432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载质量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4" descr="D:\我的文档-桌面-收藏夹\桌面\20120620091906687副本.png"/>
          <p:cNvPicPr/>
          <p:nvPr/>
        </p:nvPicPr>
        <p:blipFill>
          <a:blip r:embed="rId10"/>
          <a:stretch/>
        </p:blipFill>
        <p:spPr>
          <a:xfrm>
            <a:off x="3095640" y="1704960"/>
            <a:ext cx="1593720" cy="1511280"/>
          </a:xfrm>
          <a:prstGeom prst="rect">
            <a:avLst/>
          </a:prstGeom>
          <a:ln w="0">
            <a:noFill/>
          </a:ln>
        </p:spPr>
      </p:pic>
      <p:sp>
        <p:nvSpPr>
          <p:cNvPr id="1154" name="八边形 16"/>
          <p:cNvSpPr/>
          <p:nvPr/>
        </p:nvSpPr>
        <p:spPr>
          <a:xfrm>
            <a:off x="216000" y="863640"/>
            <a:ext cx="51408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42"/>
          <p:cNvSpPr/>
          <p:nvPr/>
        </p:nvSpPr>
        <p:spPr>
          <a:xfrm>
            <a:off x="1209600" y="5530680"/>
            <a:ext cx="7361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答：派车方案①和④都可以恰好把煤运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3"/>
          <p:cNvSpPr/>
          <p:nvPr/>
        </p:nvSpPr>
        <p:spPr>
          <a:xfrm>
            <a:off x="272880" y="3760920"/>
            <a:ext cx="34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f81bd"/>
                </a:solidFill>
                <a:latin typeface="宋体"/>
                <a:ea typeface="宋体"/>
              </a:rPr>
              <a:t>回顾与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6"/>
          <p:cNvGrpSpPr/>
          <p:nvPr/>
        </p:nvGrpSpPr>
        <p:grpSpPr>
          <a:xfrm>
            <a:off x="2230560" y="4218120"/>
            <a:ext cx="6005160" cy="1387440"/>
            <a:chOff x="2230560" y="4218120"/>
            <a:chExt cx="6005160" cy="1387440"/>
          </a:xfrm>
        </p:grpSpPr>
        <p:sp>
          <p:nvSpPr>
            <p:cNvPr id="1158" name="AutoShape 27"/>
            <p:cNvSpPr/>
            <p:nvPr/>
          </p:nvSpPr>
          <p:spPr>
            <a:xfrm>
              <a:off x="2230560" y="4218120"/>
              <a:ext cx="4286520" cy="1311840"/>
            </a:xfrm>
            <a:prstGeom prst="wedgeRoundRectCallout">
              <a:avLst>
                <a:gd name="adj1" fmla="val 61740"/>
                <a:gd name="adj2" fmla="val 33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检验一下，看第①、④两种方案是不是恰好运完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8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吨煤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9" name="图片 4" descr="6)5][}VZ%@FXJ)FA]TI76$O"/>
            <p:cNvPicPr/>
            <p:nvPr/>
          </p:nvPicPr>
          <p:blipFill>
            <a:blip r:embed="rId11"/>
            <a:stretch/>
          </p:blipFill>
          <p:spPr>
            <a:xfrm>
              <a:off x="7110720" y="4407120"/>
              <a:ext cx="1125000" cy="1198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文本框 1"/>
          <p:cNvSpPr/>
          <p:nvPr/>
        </p:nvSpPr>
        <p:spPr>
          <a:xfrm>
            <a:off x="3067200" y="1116000"/>
            <a:ext cx="2633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解决问题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文本框 2"/>
          <p:cNvSpPr/>
          <p:nvPr/>
        </p:nvSpPr>
        <p:spPr>
          <a:xfrm>
            <a:off x="561960" y="1987560"/>
            <a:ext cx="780264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要找到合理解决问题的方案，可以用列表的方法把不同的方案都列出来，再选出符合题目要求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TextBox 10"/>
          <p:cNvSpPr/>
          <p:nvPr/>
        </p:nvSpPr>
        <p:spPr>
          <a:xfrm>
            <a:off x="214200" y="1066680"/>
            <a:ext cx="8929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明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面值的人民币各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张。如果要买一个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的书包，有几种恰好付给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元的方式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11"/>
          <p:cNvSpPr/>
          <p:nvPr/>
        </p:nvSpPr>
        <p:spPr>
          <a:xfrm>
            <a:off x="1450800" y="2284560"/>
            <a:ext cx="692964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可以用以下几种方案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张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元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张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元的和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张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元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组合 2"/>
          <p:cNvGrpSpPr/>
          <p:nvPr/>
        </p:nvGrpSpPr>
        <p:grpSpPr>
          <a:xfrm>
            <a:off x="34920" y="79200"/>
            <a:ext cx="3244680" cy="525600"/>
            <a:chOff x="34920" y="79200"/>
            <a:chExt cx="3244680" cy="525600"/>
          </a:xfrm>
        </p:grpSpPr>
        <p:pic>
          <p:nvPicPr>
            <p:cNvPr id="116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85400" y="792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6" name="组合 4"/>
            <p:cNvGrpSpPr/>
            <p:nvPr/>
          </p:nvGrpSpPr>
          <p:grpSpPr>
            <a:xfrm>
              <a:off x="34920" y="174960"/>
              <a:ext cx="429840" cy="271800"/>
              <a:chOff x="34920" y="174960"/>
              <a:chExt cx="429840" cy="271800"/>
            </a:xfrm>
          </p:grpSpPr>
          <p:sp>
            <p:nvSpPr>
              <p:cNvPr id="1167" name="椭圆 3"/>
              <p:cNvSpPr/>
              <p:nvPr/>
            </p:nvSpPr>
            <p:spPr>
              <a:xfrm rot="16200000">
                <a:off x="277920" y="337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080" y="3013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9" name="椭圆 29"/>
              <p:cNvSpPr/>
              <p:nvPr/>
            </p:nvSpPr>
            <p:spPr>
              <a:xfrm rot="16200000">
                <a:off x="277920" y="2116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53080" y="1893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34920" y="3175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20" y="2894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20" y="202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34920" y="1749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组合 2"/>
          <p:cNvGrpSpPr/>
          <p:nvPr/>
        </p:nvGrpSpPr>
        <p:grpSpPr>
          <a:xfrm>
            <a:off x="0" y="136440"/>
            <a:ext cx="3244680" cy="525600"/>
            <a:chOff x="0" y="136440"/>
            <a:chExt cx="3244680" cy="525600"/>
          </a:xfrm>
        </p:grpSpPr>
        <p:pic>
          <p:nvPicPr>
            <p:cNvPr id="117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3644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7" name="组合 4"/>
            <p:cNvGrpSpPr/>
            <p:nvPr/>
          </p:nvGrpSpPr>
          <p:grpSpPr>
            <a:xfrm>
              <a:off x="0" y="232200"/>
              <a:ext cx="429840" cy="271800"/>
              <a:chOff x="0" y="232200"/>
              <a:chExt cx="429840" cy="271800"/>
            </a:xfrm>
          </p:grpSpPr>
          <p:sp>
            <p:nvSpPr>
              <p:cNvPr id="1178" name="椭圆 3"/>
              <p:cNvSpPr/>
              <p:nvPr/>
            </p:nvSpPr>
            <p:spPr>
              <a:xfrm rot="16200000">
                <a:off x="243000" y="39492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585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椭圆 29"/>
              <p:cNvSpPr/>
              <p:nvPr/>
            </p:nvSpPr>
            <p:spPr>
              <a:xfrm rot="16200000">
                <a:off x="243000" y="26892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4660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74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466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59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322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6" name="文本框 99"/>
          <p:cNvSpPr/>
          <p:nvPr/>
        </p:nvSpPr>
        <p:spPr>
          <a:xfrm>
            <a:off x="365040" y="890640"/>
            <a:ext cx="8380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单位换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＝（　　　）吨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＝（　　　）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＝（　　　）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＝（　　　）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＝（　　　）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吨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＝（　　　）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＝（　　　）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＝（　　　）吨（　　　）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9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千克＝（　　　）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文本框 1"/>
          <p:cNvSpPr/>
          <p:nvPr/>
        </p:nvSpPr>
        <p:spPr>
          <a:xfrm>
            <a:off x="2813040" y="1270080"/>
            <a:ext cx="54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文本框 2"/>
          <p:cNvSpPr/>
          <p:nvPr/>
        </p:nvSpPr>
        <p:spPr>
          <a:xfrm>
            <a:off x="1730520" y="1666800"/>
            <a:ext cx="108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4"/>
          <p:cNvSpPr/>
          <p:nvPr/>
        </p:nvSpPr>
        <p:spPr>
          <a:xfrm>
            <a:off x="2928960" y="2095560"/>
            <a:ext cx="698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6"/>
          <p:cNvSpPr/>
          <p:nvPr/>
        </p:nvSpPr>
        <p:spPr>
          <a:xfrm>
            <a:off x="2928960" y="2612880"/>
            <a:ext cx="1138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8"/>
          <p:cNvSpPr/>
          <p:nvPr/>
        </p:nvSpPr>
        <p:spPr>
          <a:xfrm>
            <a:off x="4773600" y="2962440"/>
            <a:ext cx="54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9"/>
          <p:cNvSpPr/>
          <p:nvPr/>
        </p:nvSpPr>
        <p:spPr>
          <a:xfrm>
            <a:off x="3354480" y="3359160"/>
            <a:ext cx="93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10"/>
          <p:cNvSpPr/>
          <p:nvPr/>
        </p:nvSpPr>
        <p:spPr>
          <a:xfrm>
            <a:off x="4443480" y="3878280"/>
            <a:ext cx="54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11"/>
          <p:cNvSpPr/>
          <p:nvPr/>
        </p:nvSpPr>
        <p:spPr>
          <a:xfrm>
            <a:off x="4302000" y="4294080"/>
            <a:ext cx="5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12"/>
          <p:cNvSpPr/>
          <p:nvPr/>
        </p:nvSpPr>
        <p:spPr>
          <a:xfrm>
            <a:off x="6265800" y="4294080"/>
            <a:ext cx="1090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13"/>
          <p:cNvSpPr/>
          <p:nvPr/>
        </p:nvSpPr>
        <p:spPr>
          <a:xfrm>
            <a:off x="4156200" y="4729320"/>
            <a:ext cx="111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6:30:28Z</dcterms:created>
  <dc:creator/>
  <dc:description/>
  <dc:language>en-US</dc:language>
  <cp:lastModifiedBy>万润仪器贸易公司</cp:lastModifiedBy>
  <dcterms:modified xsi:type="dcterms:W3CDTF">2020-08-21T01:18:0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